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651-577A-4792-95EB-0A46A878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9CA-08FF-4B5B-A81E-CAB46E6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96D-613F-4415-9572-680CB891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D21-5DF4-4E49-B8D6-9682C42B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678-0F1A-43AF-A6EA-7B05CA8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612-FA72-4B89-89C9-BC27702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8C1-00C2-43B5-8EA2-C60FD6D7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C0-4FBA-468E-A910-27511A1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471-ADCB-4AB9-9990-08ABD2DC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110-3351-47EE-9904-F62B89EA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A94-BEEF-4925-844B-D4C61A91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539-EF2A-4A14-88D9-9A8B6D7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9D0C-5644-4FFE-B3F6-CF57E635E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 8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tific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241720"/>
            <a:ext cx="8458200" cy="2101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13716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riting Numbers in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140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133720" cy="13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10080" y="1905120"/>
            <a:ext cx="3628800" cy="53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38440" y="2478240"/>
            <a:ext cx="3700440" cy="49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559320" y="2819520"/>
            <a:ext cx="10126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895480" cy="538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1386000"/>
            <a:ext cx="243828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62880" cy="52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3297240"/>
            <a:ext cx="7543800" cy="52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1722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Scientific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06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82296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6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6248520" cy="156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8077320" cy="6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51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1287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057400" cy="56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86200" y="1981080"/>
            <a:ext cx="2362320" cy="51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3341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objective 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4:42:31Z</dcterms:created>
  <dc:creator>Susannah Graham</dc:creator>
  <dc:description/>
  <dc:language>en-US</dc:language>
  <cp:lastModifiedBy>Susannah Graham</cp:lastModifiedBy>
  <dcterms:modified xsi:type="dcterms:W3CDTF">2009-08-05T01:57:50Z</dcterms:modified>
  <cp:revision>4</cp:revision>
  <dc:subject/>
  <dc:title>Lesson 8.2 Scientific Notation</dc:title>
</cp:coreProperties>
</file>